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081E-6C6E-4B95-BEBD-9650D782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9D19-AD69-400C-A2BE-2C417736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F7A6B7-D79D-41A0-8206-DF0AAD03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9C2464-C1B6-4AAD-90C1-EC19CCF0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073DBB-3EC0-4059-AFE7-8A874BA3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CEAD15-D12B-4DE4-B3DF-62646F85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E98609-5BE1-4AF1-9A6E-3667AD89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B3BBDC-0A0D-45B3-ADCA-1EBFDBD4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C10023-4639-49AC-8323-4CA371B9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04A964-FA20-4351-8E4F-3D52A258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608359-747D-43E0-9A82-3798FB47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1EE86F-B1EC-48F6-A4E3-24FCBF91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7258-1137-46F8-A843-0CE63B3B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19AE23-EAB9-49F4-A71B-8CEDF230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0DEEF8-19ED-47CD-BC4B-3BDFA63C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89AA34-2F3B-494A-9931-7E9500E4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811C90-59E3-4763-95D3-5FCB10EC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3B7AE8-B2FD-4B39-8CED-35F96B68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805C46-8C22-49EF-9BD5-84236A14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70011B-8935-4AD2-A0BE-0F0A312E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E9B8E3-1FA3-46AE-8E65-90A4A506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40C2D5-BD75-4C39-B69D-FE838E84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B2591F-ABEA-4ED1-A0D5-4F1B9D56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FF1A-5E0A-490D-A3A4-37AD76A3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5406DF-E675-449B-9CEE-5F60D605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B7CCA2-1151-4137-83FF-3493C89F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EF0397-5F5B-4CE0-AC15-74945CE5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595DAD-BD6F-476F-8A20-F659F519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52B75B-0291-427E-97D7-9D173B48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47E3D5-B47D-467C-8AD3-5A682696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46BC4A-507A-41CD-9FA3-4DA538D9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7ECEDC-76E8-4916-951E-D072FC3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D7D17A-D7A8-4252-8E58-09F8956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1E5246-1C1E-45B3-84ED-40CC48C7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68B36-1B2A-47CE-A478-E421ECF6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350375-4438-44F5-BDE9-35DDAE8B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ABBC61-8367-4595-91BF-A9725B1C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335805-FBA2-4A9A-9726-EED64685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3208E9-5BD4-4C89-B618-582819EC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5A5811-F5E8-4512-A744-BD07AF37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28BFBE-647A-4DD0-BD63-0BE12D60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86F56E-A3D3-4473-B473-F0BF3FE6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9C56E0-B482-4148-BB3A-B191DA15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096D3E-1CF8-483E-92EC-8DBADD59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35C480-37FB-44EF-B058-C7FCCC23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DB4C0-4D56-4389-BFF1-D3C8CD12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B7AB0D-51A2-4880-A086-2C61272D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82C4AD-3E74-4492-8841-8AB10F88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6DD46A-4D87-40A6-89BC-5115D435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5AE555-D7B1-4F44-8130-4C50BED3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14B659-2F07-4970-AD38-C884458D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458B4D-AE2D-4991-9091-8521C6A8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D3563C-8E3C-4E6E-8D31-A337F0B0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EEE365-EF6F-4300-960E-470E7138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776A2C-464E-4FB8-9A22-B38AF318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D5BAD0-D4CC-4603-A975-CE9F71BC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DCDF4-5A3A-490D-9C93-2C66DD03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85C565-FC45-4851-9769-3D392F21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9D17D9-E494-4518-951E-C431E5CC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48521C-EC65-4650-BEBE-4D7CD93D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8AB3D2-B354-45E1-A636-EF3917B8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EFC946-3EC3-45BD-9104-5678D1C3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4EF61F-3C5E-42B2-A34D-79F5F9F1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4299B9-1193-4193-A8A1-8BAFAF19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1D809-209B-49B4-ABB0-21D8092B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16E18-D2E9-4D5A-B8C6-009EBB77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F58B8-0BAC-48B9-B29B-49AD0810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102D8-0540-40DF-AD13-94368F27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15B15-39F2-4165-B2E5-92260F92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28A4F-7D89-452B-ABF9-79CE08A2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508A3-1B44-40D4-B8AA-B4F788E4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39E9E-688D-4311-B463-167E4E3B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48E3A-DAFA-4F3F-94DE-37C3A0F5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E3315-E550-4FED-A26D-7B9F8178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BEE47-F547-4A5D-A130-0E6BAB0F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760441-9419-40FE-9B04-E28A8C30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12B727-584B-49BC-AC53-AD79FDFA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B74A46-A7CE-4ACF-B0B6-38169C8E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C6456-55C5-46B4-A24A-9CECFBD3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1DEDCD-1160-47C0-8879-68660706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848E19-8169-44BF-AC45-4637C10E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C7CC5DD-7E6F-4653-AF71-671E5B61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9059F4-4B5D-40AF-BA45-A96EF6D0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4EFD95-A845-4C15-9B40-5DF476A2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9F05A0-1CEE-4E96-A9B9-B91CB845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8AD452-9B0A-4454-AE3F-7D5DA1DA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6268D6-F72D-4613-8ADA-42F82395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C27BD4-9450-4E40-9356-9FE2E214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125DAA-D9FD-4478-A9D7-BB316B66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3AA87-7F79-49C8-9869-832AEB8F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20FAEB-6E84-468C-BE67-5E142F12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82AE3-FC9D-4700-8CD8-C3125B60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054D-5527-49FC-A342-D1F6F4CB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42459-E732-4741-9A18-A49F3D9E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1B93E-E8D3-478F-8954-DBADC5AD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C196C-AE52-4928-A4D4-D547CB71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4FB4B-E70E-4694-B64D-56B65181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53ACE-DF3E-48B8-8C0C-9F917A9B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D0A7-3BAF-4857-AA37-92E49CE1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399E-D97F-404B-AFFF-6D5F33A2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905F-B71B-4686-AEC3-0E75EBCA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97BE-01DB-49E3-AB52-F159D01B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170B-96BE-4800-B262-E856F381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6906-C48B-4BC0-BFBE-9ACBD1C7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7847-A06B-43B0-ABAA-6373BEC3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5E17-AB46-4924-9F60-2712BC7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30A1-1DE9-4491-A61C-7D9CE1A5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C17E-EEF6-4CD6-9BD4-1E0538AA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3DC4-E03E-4E02-849A-A5B2E41A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4E02-1316-4ADD-8ED6-C6A7913A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F0F6-DA85-46B0-AB68-EA539684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FAFEF-931F-4628-92B1-D0F6BED6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40851-92F2-4486-BB01-0E0F37A9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F9AD0-DDA9-495A-85D1-15CB664C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3FBF-ACF2-4E30-827D-6AD1421A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B9205-61EF-4453-9A9D-65D32804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1217E-ACE1-4B98-B9F6-EB0232AE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CD8C8-CF68-4685-9A32-222994C2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F5B4A-D5FE-44B1-AAF4-1B983110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68EBC-BE0C-43DC-B7F4-B6EBF03C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5844C-9547-47B3-A265-B9E07C5D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15377-0219-4129-A292-1E11A82C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2FC27-44AA-492E-A725-49623FC4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4265B-F5E8-4083-8613-69C15526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E749B-249B-432C-A782-6163D915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9B87-FE14-4202-97B0-48A70D1D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57E35-EBDB-46F4-B14F-89F61485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DE867-CBF8-4E0D-AB76-EF1333B0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C684A-27B6-4B84-BE87-399BD69B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52C9A-9A1F-4FB0-B140-13B4C8A9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F5607-B2CE-4832-BA29-AA5213D8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4A90B-8DD7-4804-9C59-5F9CA9E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65A597-1F32-40CE-BA4B-1FA0B4DD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286E1-FCCD-44A6-881A-CCED0932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88469-9D54-4CB5-9CFF-7C32A0F2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F8E34-BC06-4FCA-B5EB-2A71E56A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8D21C-5024-4BEA-A3C4-5A6CC8BB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91D6D-F234-4C21-AFD1-DFBFF8D2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F1B0F-B49B-4B16-9303-21BDF8BE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8E1EF-AF33-42CF-8F3E-BF834FFD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D68E2-151E-44B4-AB57-00FC5D1F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C8E50-CE7E-4CFB-8A89-5C5F2D50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2EDF3B-F02B-41EA-A4CB-9FC828E0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A7B62E-0A0B-4661-9786-0675C11E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A5FE6-482C-4B85-A964-7F774084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AFD73-03DC-48B9-BD46-1B633AC3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5CCB6-3CE7-43DC-92A1-B3179782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DABD-52E0-40C4-A695-1ED4E98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9FBCF-E327-4C06-A649-18DDFEF4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F44ED-12FD-4381-8271-B507DDA2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0EBCB-ED86-4BFF-85E0-C6E6DAF4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F6782-216F-4C98-B25F-92266BFC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E01AA-B981-44B1-B8BA-24FCA89E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1D11E-88A7-4DC0-9A2E-7AF70599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981C9-0946-4277-9879-6CE910A2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EE16C-B001-4BBC-9D0E-71F5A2E6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6A4492-D9FD-4D7B-BADD-C5391223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6382BC-31E4-4451-85BA-A9B862B6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55AD-3BBA-436B-AEE8-DEDE1B9D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6294A3-6FA1-4F36-B99A-993C3192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E78CFE-1AF4-4E49-BD9F-3A21D2A7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289F9-079B-4FBD-BB69-25066E7A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A4D61E-8755-416D-855E-24E7D2A4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32ACA-C6B4-4E51-83F7-8DF0B345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3FD433-D2A3-4FA7-B236-3C9E128F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27442D-4BF3-44F0-8C51-0985B4C1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556F7C-E281-4D88-BCFA-598BB09B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9779DA-70C1-4DF4-8726-D0F031D5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5867F0-DE38-45BB-95AB-6C83568D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B8CF-04E0-4AC6-ACD4-850E4455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E2674A-DF40-4333-924A-D5E65551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BA0D98-6919-4602-BAC8-7F488DD8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0467B8-5DD4-4A4D-81C9-9EEF7FE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D0FC5D-F9BE-4E6B-92DD-EE0959BE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8C4C74-C752-409F-BE04-08BE8341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5C8B16-1740-4397-B0C9-6FFDEB6D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349379-1510-49E3-AD76-D49A08DD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FD0D8B-2ED7-420B-9703-722FCD81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C4AFBC-45E8-492B-8619-C3AE4A93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2031F1-D7DF-4CEE-A880-CE679B03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A9FE-8B21-45AF-BFE3-7D5048213A1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6B4C-9142-4763-A84A-D3366535B68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64EA-3FAE-45F9-AFB2-C4CFD1E37F7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D8C4-7056-4CA3-BBAC-2F197A65DC4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A072-064E-4148-BBE7-5CDF393B2EA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Conector reto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4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4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4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EF2E-9986-462E-B9F7-80A04297FE4E}" type="slidenum">
              <a:rPr b="0" lang="pt-BR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Conector reto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Conector reto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Num" idx="4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6A25-D608-4E3D-884D-55C4030877B6}" type="slidenum">
              <a:rPr b="0" lang="pt-BR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dt" idx="4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DC9C-6778-49A6-87D6-271A08044311}" type="slidenum">
              <a:rPr b="0" lang="pt-BR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7A70-72DF-4295-85EB-EB80EFBCA44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24EF-E8F7-4A40-88BB-5750D6F92F0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50B5-D395-4D35-9AE2-B79EF3CCB73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921B-06A8-4EA2-AE40-92B72DF8A88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A2CD-AF57-4ADF-BC53-DB11B2DE58C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852F-F0EC-47F8-B121-4D0FD194993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D509-7DDE-4906-B959-2C184EE88EE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vanira@hernandesacoesesportivas.com.br" TargetMode="External"/><Relationship Id="rId3" Type="http://schemas.openxmlformats.org/officeDocument/2006/relationships/hyperlink" Target="mailto:vania-hernandes@hotmail.com" TargetMode="External"/><Relationship Id="rId4" Type="http://schemas.openxmlformats.org/officeDocument/2006/relationships/hyperlink" Target="http://lattes.cnpq.br/5060154719055619" TargetMode="External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CaixaDeTexto 2"/>
          <p:cNvSpPr/>
          <p:nvPr/>
        </p:nvSpPr>
        <p:spPr>
          <a:xfrm>
            <a:off x="468360" y="285264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erformance que o move, é a nossa maior inspi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ção e gestão de projetos desportivos, culturais e sociais. Leis de incentivo. Assessoria técnica e juríd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tângulo 9"/>
          <p:cNvSpPr/>
          <p:nvPr/>
        </p:nvSpPr>
        <p:spPr>
          <a:xfrm>
            <a:off x="738360" y="1700280"/>
            <a:ext cx="74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Pessoas Físicas podem deduzir até 6% do seu Imposto de Renda para investir em projetos aprov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m nossa legislação, as pessoas físicas que optam pela declaração do imposto de renda completa podem aproveitar os incentivos fiscais para doação apenas nos seguintes caso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ações aos fundos dos Direitos da Criança e do Adolescente (federal, estaduais e municipais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tinadas a projetos culturais e artísticos e audiovisu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tinadas a projetos despor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tângulo 5"/>
          <p:cNvSpPr/>
          <p:nvPr/>
        </p:nvSpPr>
        <p:spPr>
          <a:xfrm>
            <a:off x="755640" y="981000"/>
            <a:ext cx="741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ATROCÍNIO DE PESSOA FÍSICA PARA PROJE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tângulo 1"/>
          <p:cNvSpPr/>
          <p:nvPr/>
        </p:nvSpPr>
        <p:spPr>
          <a:xfrm>
            <a:off x="755640" y="907920"/>
            <a:ext cx="756144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SEGMEN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s recursos serão destinados a projetos desportivos que contemp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tividades sócio-desportivas educacionais, ao desporto e paradespor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centradas nas seguintes á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 - Área Educacional: projetos voltados como disciplina ou ativ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xtracurricular desportiva no âmbito da educação básica, fundament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édio e superior promovendo atividades no contra turno escol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bjetivando o desenvolvimento integral do indivídu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I -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Área de Formação Desportiva: projetos voltados para a iniciaç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envolvimento motor geral de crianças e adolescentes por meio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ática de atividades desportivas e físicas orientadas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tângulo 1"/>
          <p:cNvSpPr/>
          <p:nvPr/>
        </p:nvSpPr>
        <p:spPr>
          <a:xfrm>
            <a:off x="755640" y="836640"/>
            <a:ext cx="755964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SEGMEN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II -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Área de Rendimento: projetos que finalizem a formação e iniciem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ndimento desportivo, de forma técnica e metodológica, na área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reinamento desportivo, atendendo equipes e atletas com idade ig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u superior a 14 anos, vinculadas a entidades de práticas desportiva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bjetivando a formação e especialização, inclusive de alto rendimento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V -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Área Sócio-Desportiva: projetos que utilizem o desporto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erramenta de inserção social, propiciando as pessoas de baixa ren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portunidades para práticas desportiv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tângulo 1"/>
          <p:cNvSpPr/>
          <p:nvPr/>
        </p:nvSpPr>
        <p:spPr>
          <a:xfrm>
            <a:off x="755640" y="765000"/>
            <a:ext cx="755964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SEGMEN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Área Participati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projetos voltados para ampla participação de pessoas em ev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portivos que evitem a seletividade e a hipercompetitividade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us  participantes, atendendo crianças, adolescentes, adultos, idos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essoas com deficiências, além de modalidades e respectivos públ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sintetizematividades físicas representativas de valores da nos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dentidade cultur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projetos voltados à distribuição gratuita de ingressos para ev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 caráter desportivo e paradesportivo por pessoa jurídica,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tegrantes da rede publica de ensino ou a integrantes de comun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 vulnerabilidade social, devidamente comprovadas na fu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stação de co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tângulo 1"/>
          <p:cNvSpPr/>
          <p:nvPr/>
        </p:nvSpPr>
        <p:spPr>
          <a:xfrm>
            <a:off x="755640" y="765000"/>
            <a:ext cx="7559640" cy="47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SEGMEN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I -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Área de Gestão e Desenvolvimento Desportivo: projetos voltado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apacitação, treinamento, intercâmbios nacionais e internacionai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bolsas de treinamento, objetivando atender técnicos, atleta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gestores desportivos buscando desenvolver e aperfeiçoar a gest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obre a administração, técnicas e equipamentos desportiv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II -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Área de Infraestrutura: projetos voltados à construção, reforma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dequação de espaços, equipamentos e instalações desportivas, des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situados em próprios públic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Parágrafo único -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 É vedada a apresentação de projetos que preveja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cobrança de qualquer valor pecuniário aos beneficiário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CaixaDeTexto 3"/>
          <p:cNvSpPr/>
          <p:nvPr/>
        </p:nvSpPr>
        <p:spPr>
          <a:xfrm>
            <a:off x="784080" y="2273400"/>
            <a:ext cx="736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Não existe qualquer restrição quanto as modalidades esportivas, com exceção daquelas praticadas de modo profis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Todos os segmentos podem buscar os recursos incentivados (individual, coletiva, terrestre, aquática, hípica, motorizada, radical, de aventura, olímpica, não olímpica, paralímpica entre out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tângulo 2"/>
          <p:cNvSpPr/>
          <p:nvPr/>
        </p:nvSpPr>
        <p:spPr>
          <a:xfrm>
            <a:off x="784080" y="993600"/>
            <a:ext cx="76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MODALIDADE ESPORTIVA BENEFICI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CaixaDeTexto 3"/>
          <p:cNvSpPr/>
          <p:nvPr/>
        </p:nvSpPr>
        <p:spPr>
          <a:xfrm>
            <a:off x="781200" y="2189160"/>
            <a:ext cx="79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adeira de Rodas (basquete, bocha, tên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porte para amputados (atletismo, artes marciais, mergulh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porte para prejudicados da visão (futebol de salão, jud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porte adaptados para paralisados cerbrais (ciclismo, hipism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etições próprias, como jogos Paralímpicos, e entidades específicas, como: Comitê Paralímpico Brasileiro (cpb) e Associação Desportiva para Deficientes (AD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tângulo 2"/>
          <p:cNvSpPr/>
          <p:nvPr/>
        </p:nvSpPr>
        <p:spPr>
          <a:xfrm>
            <a:off x="781200" y="1027080"/>
            <a:ext cx="76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ESPORTES ADAPTADOS</a:t>
            </a:r>
            <a:r>
              <a:rPr b="1" i="1" lang="en-US" sz="2400" spc="-1" strike="noStrike">
                <a:solidFill>
                  <a:srgbClr val="00007d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tângulo 2"/>
          <p:cNvSpPr/>
          <p:nvPr/>
        </p:nvSpPr>
        <p:spPr>
          <a:xfrm>
            <a:off x="781200" y="1657440"/>
            <a:ext cx="729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rática esportiva para pessoas com deficiê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tângulo 2"/>
          <p:cNvSpPr/>
          <p:nvPr/>
        </p:nvSpPr>
        <p:spPr>
          <a:xfrm>
            <a:off x="750960" y="1366920"/>
            <a:ext cx="8039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  <a:ea typeface="Calibri"/>
              </a:rPr>
              <a:t>Projeto de arquitetura assinado pelo </a:t>
            </a:r>
            <a:r>
              <a:rPr b="0" lang="pt-BR" sz="2000" spc="-1" strike="noStrike">
                <a:solidFill>
                  <a:srgbClr val="0d0d0d"/>
                </a:solidFill>
                <a:latin typeface="Calibri"/>
                <a:ea typeface="Calibri"/>
              </a:rPr>
              <a:t>proprietário e responsável técnico, com respectivos cortes e planta de situ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  <a:ea typeface="Calibri"/>
              </a:rPr>
              <a:t>A critério do engenheiro, que analisará a viabilidade do projeto, e da Caixa Econômica Federal, responsável pela fiscalização e execução do mesmo, poderão ser exigidos projetos de instalação, estrutura e fund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  <a:ea typeface="Calibri"/>
              </a:rPr>
              <a:t>Orçamento detalhado (planilha de preços unitários), que use como referência os preços praticados pelo Sistema Nacional de Pesquisa de Custos e Índices da Construção Civil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  <a:ea typeface="Calibri"/>
              </a:rPr>
              <a:t>  da Caixa Econômica Fed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  <a:ea typeface="Calibri"/>
              </a:rPr>
              <a:t>Não é permitido preço unitário com valor estimado, exceto projetos com valor abaixo de R$500.000,00 (quinhentos mil re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tângulo 2"/>
          <p:cNvSpPr/>
          <p:nvPr/>
        </p:nvSpPr>
        <p:spPr>
          <a:xfrm>
            <a:off x="750960" y="76500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ROJETOS DE INFRAESTRU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tângulo 2"/>
          <p:cNvSpPr/>
          <p:nvPr/>
        </p:nvSpPr>
        <p:spPr>
          <a:xfrm>
            <a:off x="709560" y="21798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tângulo 2"/>
          <p:cNvSpPr/>
          <p:nvPr/>
        </p:nvSpPr>
        <p:spPr>
          <a:xfrm>
            <a:off x="971640" y="85392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DOS PROJETOS DESPORTIVOS - 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tângulo de cantos arredondados 3"/>
          <p:cNvSpPr/>
          <p:nvPr/>
        </p:nvSpPr>
        <p:spPr>
          <a:xfrm>
            <a:off x="1252440" y="4076640"/>
            <a:ext cx="2089080" cy="827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Científica/Té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tângulo de cantos arredondados 11"/>
          <p:cNvSpPr/>
          <p:nvPr/>
        </p:nvSpPr>
        <p:spPr>
          <a:xfrm>
            <a:off x="6084720" y="4078440"/>
            <a:ext cx="2087640" cy="82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ENS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struir/Edu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tângulo de cantos arredondados 12"/>
          <p:cNvSpPr/>
          <p:nvPr/>
        </p:nvSpPr>
        <p:spPr>
          <a:xfrm>
            <a:off x="3627360" y="4565520"/>
            <a:ext cx="2089080" cy="8272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ST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Debate/Discus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esquisa/Anál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tângulo de cantos arredondados 13"/>
          <p:cNvSpPr/>
          <p:nvPr/>
        </p:nvSpPr>
        <p:spPr>
          <a:xfrm>
            <a:off x="6084720" y="2627280"/>
            <a:ext cx="2087640" cy="8272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RÁ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tividade Espor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tângulo de cantos arredondados 14"/>
          <p:cNvSpPr/>
          <p:nvPr/>
        </p:nvSpPr>
        <p:spPr>
          <a:xfrm>
            <a:off x="1258920" y="2614680"/>
            <a:ext cx="2089080" cy="8269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DESENVOLV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Expandir/Ampli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tend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tângulo de cantos arredondados 15"/>
          <p:cNvSpPr/>
          <p:nvPr/>
        </p:nvSpPr>
        <p:spPr>
          <a:xfrm>
            <a:off x="3654360" y="1787400"/>
            <a:ext cx="2089080" cy="8272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Executar/Prati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tângulo de cantos arredondados 16"/>
          <p:cNvSpPr/>
          <p:nvPr/>
        </p:nvSpPr>
        <p:spPr>
          <a:xfrm>
            <a:off x="3662280" y="3040200"/>
            <a:ext cx="2087640" cy="10364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ROJETO DESPOR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eta para baixo 4"/>
          <p:cNvSpPr/>
          <p:nvPr/>
        </p:nvSpPr>
        <p:spPr>
          <a:xfrm>
            <a:off x="4581360" y="4199040"/>
            <a:ext cx="209880" cy="26352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eta para baixo 18"/>
          <p:cNvSpPr/>
          <p:nvPr/>
        </p:nvSpPr>
        <p:spPr>
          <a:xfrm flipV="1">
            <a:off x="4594320" y="2775960"/>
            <a:ext cx="209520" cy="2221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eta para baixo 21"/>
          <p:cNvSpPr/>
          <p:nvPr/>
        </p:nvSpPr>
        <p:spPr>
          <a:xfrm flipV="1" rot="5400000">
            <a:off x="5868720" y="3635280"/>
            <a:ext cx="209520" cy="2221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eta para baixo 22"/>
          <p:cNvSpPr/>
          <p:nvPr/>
        </p:nvSpPr>
        <p:spPr>
          <a:xfrm flipV="1" rot="16200000">
            <a:off x="3346560" y="3598920"/>
            <a:ext cx="209880" cy="220680"/>
          </a:xfrm>
          <a:prstGeom prst="downArrow">
            <a:avLst>
              <a:gd name="adj1" fmla="val 50000"/>
              <a:gd name="adj2" fmla="val 499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upo 41"/>
          <p:cNvGrpSpPr/>
          <p:nvPr/>
        </p:nvGrpSpPr>
        <p:grpSpPr>
          <a:xfrm>
            <a:off x="539640" y="1052640"/>
            <a:ext cx="8183520" cy="4516200"/>
            <a:chOff x="539640" y="1052640"/>
            <a:chExt cx="8183520" cy="4516200"/>
          </a:xfrm>
        </p:grpSpPr>
        <p:sp>
          <p:nvSpPr>
            <p:cNvPr id="690" name="Retângulo 2"/>
            <p:cNvSpPr/>
            <p:nvPr/>
          </p:nvSpPr>
          <p:spPr>
            <a:xfrm>
              <a:off x="706320" y="1052640"/>
              <a:ext cx="762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7d"/>
                  </a:solidFill>
                  <a:latin typeface="Calibri"/>
                </a:rPr>
                <a:t>FLUXOGRAMA DE TRAMITAÇÃO DOS PROJETOS DESPORTIV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tângulo de cantos arredondados 1"/>
            <p:cNvSpPr/>
            <p:nvPr/>
          </p:nvSpPr>
          <p:spPr>
            <a:xfrm>
              <a:off x="544320" y="1773360"/>
              <a:ext cx="1743120" cy="79200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laboração do Proj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tângulo de cantos arredondados 5"/>
            <p:cNvSpPr/>
            <p:nvPr/>
          </p:nvSpPr>
          <p:spPr>
            <a:xfrm>
              <a:off x="2711160" y="1773360"/>
              <a:ext cx="1743120" cy="79200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dastro do Proponente On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tângulo de cantos arredondados 6"/>
            <p:cNvSpPr/>
            <p:nvPr/>
          </p:nvSpPr>
          <p:spPr>
            <a:xfrm>
              <a:off x="4865400" y="1738440"/>
              <a:ext cx="1743120" cy="820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Conector reto 11"/>
            <p:cNvSpPr/>
            <p:nvPr/>
          </p:nvSpPr>
          <p:spPr>
            <a:xfrm>
              <a:off x="2417400" y="2241360"/>
              <a:ext cx="14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Conector reto 14"/>
            <p:cNvSpPr/>
            <p:nvPr/>
          </p:nvSpPr>
          <p:spPr>
            <a:xfrm>
              <a:off x="4578120" y="224136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6" name="Conector angulado 13"/>
            <p:cNvCxnSpPr/>
            <p:nvPr/>
          </p:nvCxnSpPr>
          <p:spPr>
            <a:xfrm flipV="1" rot="10800000">
              <a:off x="4487040" y="2564280"/>
              <a:ext cx="378360" cy="27828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7" name="Retângulo de cantos arredondados 15"/>
            <p:cNvSpPr/>
            <p:nvPr/>
          </p:nvSpPr>
          <p:spPr>
            <a:xfrm>
              <a:off x="2652480" y="270972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iss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éc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tângulo de cantos arredondados 21"/>
            <p:cNvSpPr/>
            <p:nvPr/>
          </p:nvSpPr>
          <p:spPr>
            <a:xfrm>
              <a:off x="539640" y="271476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cretari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ecu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9" name="Conector de seta reta 20"/>
            <p:cNvCxnSpPr/>
            <p:nvPr/>
          </p:nvCxnSpPr>
          <p:spPr>
            <a:xfrm flipH="1">
              <a:off x="2347560" y="2925360"/>
              <a:ext cx="2732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0" name="Retângulo de cantos arredondados 24"/>
            <p:cNvSpPr/>
            <p:nvPr/>
          </p:nvSpPr>
          <p:spPr>
            <a:xfrm>
              <a:off x="539640" y="3789360"/>
              <a:ext cx="1743120" cy="649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ligência a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pon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1" name="Conector de seta reta 40"/>
            <p:cNvCxnSpPr/>
            <p:nvPr/>
          </p:nvCxnSpPr>
          <p:spPr>
            <a:xfrm>
              <a:off x="1331280" y="3450960"/>
              <a:ext cx="1080" cy="338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2" name="Conector de seta reta 42"/>
            <p:cNvCxnSpPr/>
            <p:nvPr/>
          </p:nvCxnSpPr>
          <p:spPr>
            <a:xfrm flipV="1">
              <a:off x="1634400" y="3450600"/>
              <a:ext cx="1080" cy="322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3" name="Conector de seta reta 44"/>
            <p:cNvCxnSpPr/>
            <p:nvPr/>
          </p:nvCxnSpPr>
          <p:spPr>
            <a:xfrm>
              <a:off x="2358720" y="3141360"/>
              <a:ext cx="289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4" name="Conector de seta reta 46"/>
            <p:cNvCxnSpPr/>
            <p:nvPr/>
          </p:nvCxnSpPr>
          <p:spPr>
            <a:xfrm>
              <a:off x="3522240" y="3452400"/>
              <a:ext cx="1080" cy="338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5" name="Retângulo de cantos arredondados 47"/>
            <p:cNvSpPr/>
            <p:nvPr/>
          </p:nvSpPr>
          <p:spPr>
            <a:xfrm>
              <a:off x="2609640" y="3794040"/>
              <a:ext cx="1743120" cy="649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Conector de seta reta 48"/>
            <p:cNvCxnSpPr/>
            <p:nvPr/>
          </p:nvCxnSpPr>
          <p:spPr>
            <a:xfrm>
              <a:off x="3480840" y="458136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7" name="Retângulo de cantos arredondados 49"/>
            <p:cNvSpPr/>
            <p:nvPr/>
          </p:nvSpPr>
          <p:spPr>
            <a:xfrm>
              <a:off x="2620800" y="492120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união de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t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8" name="Conector de seta reta 36879"/>
            <p:cNvCxnSpPr/>
            <p:nvPr/>
          </p:nvCxnSpPr>
          <p:spPr>
            <a:xfrm flipV="1">
              <a:off x="4395600" y="4114440"/>
              <a:ext cx="465840" cy="80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9" name="Retângulo de cantos arredondados 57"/>
            <p:cNvSpPr/>
            <p:nvPr/>
          </p:nvSpPr>
          <p:spPr>
            <a:xfrm>
              <a:off x="4951440" y="3470400"/>
              <a:ext cx="1743120" cy="64908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rovaç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tângulo de cantos arredondados 58"/>
            <p:cNvSpPr/>
            <p:nvPr/>
          </p:nvSpPr>
          <p:spPr>
            <a:xfrm>
              <a:off x="4951440" y="419436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rovaç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tângulo de cantos arredondados 59"/>
            <p:cNvSpPr/>
            <p:nvPr/>
          </p:nvSpPr>
          <p:spPr>
            <a:xfrm>
              <a:off x="4951440" y="492120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jei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2" name="Conector de seta reta 60"/>
            <p:cNvCxnSpPr/>
            <p:nvPr/>
          </p:nvCxnSpPr>
          <p:spPr>
            <a:xfrm flipV="1">
              <a:off x="4395240" y="4670640"/>
              <a:ext cx="470520" cy="250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3" name="Conector de seta reta 63"/>
            <p:cNvCxnSpPr>
              <a:endCxn id="711" idx="1"/>
            </p:cNvCxnSpPr>
            <p:nvPr/>
          </p:nvCxnSpPr>
          <p:spPr>
            <a:xfrm>
              <a:off x="4395240" y="4920840"/>
              <a:ext cx="556200" cy="324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4" name="Retângulo de cantos arredondados 69"/>
            <p:cNvSpPr/>
            <p:nvPr/>
          </p:nvSpPr>
          <p:spPr>
            <a:xfrm>
              <a:off x="6980040" y="3470400"/>
              <a:ext cx="1743120" cy="649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ublicaç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tângulo de cantos arredondados 70"/>
            <p:cNvSpPr/>
            <p:nvPr/>
          </p:nvSpPr>
          <p:spPr>
            <a:xfrm>
              <a:off x="6980040" y="451800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edido de Reconsider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tângulo de cantos arredondados 79"/>
            <p:cNvSpPr/>
            <p:nvPr/>
          </p:nvSpPr>
          <p:spPr>
            <a:xfrm>
              <a:off x="5711760" y="2719440"/>
              <a:ext cx="2460600" cy="6476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ocumentaç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bertura C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Grupo 36"/>
            <p:cNvGrpSpPr/>
            <p:nvPr/>
          </p:nvGrpSpPr>
          <p:grpSpPr>
            <a:xfrm>
              <a:off x="5220720" y="3018240"/>
              <a:ext cx="422280" cy="353160"/>
              <a:chOff x="5220720" y="3018240"/>
              <a:chExt cx="422280" cy="353160"/>
            </a:xfrm>
          </p:grpSpPr>
          <p:sp>
            <p:nvSpPr>
              <p:cNvPr id="718" name="Conector reto 33"/>
              <p:cNvSpPr/>
              <p:nvPr/>
            </p:nvSpPr>
            <p:spPr>
              <a:xfrm flipV="1">
                <a:off x="5220720" y="3018600"/>
                <a:ext cx="0" cy="352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9" name="Conector de seta reta 35"/>
              <p:cNvCxnSpPr/>
              <p:nvPr/>
            </p:nvCxnSpPr>
            <p:spPr>
              <a:xfrm>
                <a:off x="5220720" y="3018240"/>
                <a:ext cx="4226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720" name="Grupo 39"/>
            <p:cNvGrpSpPr/>
            <p:nvPr/>
          </p:nvGrpSpPr>
          <p:grpSpPr>
            <a:xfrm>
              <a:off x="8195400" y="3018600"/>
              <a:ext cx="320040" cy="432360"/>
              <a:chOff x="8195400" y="3018600"/>
              <a:chExt cx="320040" cy="432360"/>
            </a:xfrm>
          </p:grpSpPr>
          <p:cxnSp>
            <p:nvCxnSpPr>
              <p:cNvPr id="721" name="Conector de seta reta 85"/>
              <p:cNvCxnSpPr/>
              <p:nvPr/>
            </p:nvCxnSpPr>
            <p:spPr>
              <a:xfrm>
                <a:off x="8494560" y="3018600"/>
                <a:ext cx="1080" cy="4327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22" name="Conector reto 87"/>
              <p:cNvSpPr/>
              <p:nvPr/>
            </p:nvSpPr>
            <p:spPr>
              <a:xfrm>
                <a:off x="8195400" y="3018600"/>
                <a:ext cx="32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upo 93"/>
            <p:cNvGrpSpPr/>
            <p:nvPr/>
          </p:nvGrpSpPr>
          <p:grpSpPr>
            <a:xfrm>
              <a:off x="6800760" y="4293720"/>
              <a:ext cx="620640" cy="225720"/>
              <a:chOff x="6800760" y="4293720"/>
              <a:chExt cx="620640" cy="225720"/>
            </a:xfrm>
          </p:grpSpPr>
          <p:cxnSp>
            <p:nvCxnSpPr>
              <p:cNvPr id="724" name="Conector de seta reta 94"/>
              <p:cNvCxnSpPr/>
              <p:nvPr/>
            </p:nvCxnSpPr>
            <p:spPr>
              <a:xfrm>
                <a:off x="7420680" y="4293720"/>
                <a:ext cx="1080" cy="226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25" name="Conector reto 95"/>
              <p:cNvSpPr/>
              <p:nvPr/>
            </p:nvSpPr>
            <p:spPr>
              <a:xfrm>
                <a:off x="6800760" y="4309560"/>
                <a:ext cx="620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upo 96"/>
            <p:cNvGrpSpPr/>
            <p:nvPr/>
          </p:nvGrpSpPr>
          <p:grpSpPr>
            <a:xfrm>
              <a:off x="6827760" y="5244480"/>
              <a:ext cx="620640" cy="216360"/>
              <a:chOff x="6827760" y="5244480"/>
              <a:chExt cx="620640" cy="216360"/>
            </a:xfrm>
          </p:grpSpPr>
          <p:cxnSp>
            <p:nvCxnSpPr>
              <p:cNvPr id="727" name="Conector de seta reta 97"/>
              <p:cNvCxnSpPr/>
              <p:nvPr/>
            </p:nvCxnSpPr>
            <p:spPr>
              <a:xfrm flipV="1">
                <a:off x="7447680" y="5244480"/>
                <a:ext cx="1080" cy="2167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28" name="Conector reto 98"/>
              <p:cNvSpPr/>
              <p:nvPr/>
            </p:nvSpPr>
            <p:spPr>
              <a:xfrm>
                <a:off x="6827760" y="5445000"/>
                <a:ext cx="620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Box 4"/>
          <p:cNvSpPr/>
          <p:nvPr/>
        </p:nvSpPr>
        <p:spPr>
          <a:xfrm>
            <a:off x="1042920" y="1065240"/>
            <a:ext cx="383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OS INCENTIVOS FISC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tângulo 9"/>
          <p:cNvSpPr/>
          <p:nvPr/>
        </p:nvSpPr>
        <p:spPr>
          <a:xfrm>
            <a:off x="1042920" y="1773360"/>
            <a:ext cx="6842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centivos fiscais são instrumentos utilizados pelo governo para estimular atividades específicas, por prazo determinado (projet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xistem incentivos que facilitam a transferência de recursos para atividades relacionadas ao Terceiro Setor, com o objetivo de fortalecer o tecido social do Paí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ses incentivos são importantes ferramentas para a consolidação da sustentação-financeira das entidades sem fins lucra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CaixaDeTexto 3"/>
          <p:cNvSpPr/>
          <p:nvPr/>
        </p:nvSpPr>
        <p:spPr>
          <a:xfrm>
            <a:off x="749160" y="1484280"/>
            <a:ext cx="7920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Qual sua missão enquanto entidade despor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Quais seus objetivos de curto, médio e longo prazo (planejamen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Qual é sua capacidade de ação própria (condição física, material, humana e financeir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Histórico de atuação (realizaçõe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Suas alianças estratégicas (parceria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Seu papel no cenário desportivo (local. Regional, estadual, nacional, internacion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Seu segmento de atuação (entidade de administração ou prática desportiv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Seu foco quanto a natureza e finalidade do desporto (educacional, participativo ou rendimen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Modalidade e faixa sócioeconômica que deseja alcanç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tângulo 2"/>
          <p:cNvSpPr/>
          <p:nvPr/>
        </p:nvSpPr>
        <p:spPr>
          <a:xfrm>
            <a:off x="749160" y="907920"/>
            <a:ext cx="76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Calibri"/>
              </a:rPr>
              <a:t>PROPONE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upo 2"/>
          <p:cNvGrpSpPr/>
          <p:nvPr/>
        </p:nvGrpSpPr>
        <p:grpSpPr>
          <a:xfrm>
            <a:off x="6480" y="15840"/>
            <a:ext cx="9137520" cy="6858000"/>
            <a:chOff x="6480" y="15840"/>
            <a:chExt cx="9137520" cy="6858000"/>
          </a:xfrm>
        </p:grpSpPr>
        <p:pic>
          <p:nvPicPr>
            <p:cNvPr id="732" name="Picture 2" descr="E:\HERNANDES AÇÕES ESPORTIVA\FUNDO DE TELA HERNANDES\fundo de tela power point Hernandes - fechamento - sem nome.jpg"/>
            <p:cNvPicPr/>
            <p:nvPr/>
          </p:nvPicPr>
          <p:blipFill>
            <a:blip r:embed="rId1"/>
            <a:stretch/>
          </p:blipFill>
          <p:spPr>
            <a:xfrm>
              <a:off x="6480" y="15840"/>
              <a:ext cx="91375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CaixaDeTexto 6"/>
            <p:cNvSpPr/>
            <p:nvPr/>
          </p:nvSpPr>
          <p:spPr>
            <a:xfrm>
              <a:off x="539640" y="3085920"/>
              <a:ext cx="424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Vanira Hernandes de Sou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Gestora de Proje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666699"/>
                  </a:solidFill>
                  <a:uFillTx/>
                  <a:latin typeface="Calibri"/>
                  <a:ea typeface="Calibri"/>
                  <a:hlinkClick r:id="rId2"/>
                </a:rPr>
                <a:t>vanira@hernandesacoesesportivas.com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|15. 98117-3637 | 11. 98238-3907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CaixaDeTexto 8"/>
            <p:cNvSpPr/>
            <p:nvPr/>
          </p:nvSpPr>
          <p:spPr>
            <a:xfrm>
              <a:off x="4637880" y="2997000"/>
              <a:ext cx="4392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Vânia Hernandes de Sou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a. Pedagógia e Psicólogia do Esp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 u="sng">
                  <a:solidFill>
                    <a:srgbClr val="666699"/>
                  </a:solidFill>
                  <a:uFillTx/>
                  <a:latin typeface="Calibri"/>
                  <a:ea typeface="Calibri"/>
                  <a:hlinkClick r:id="rId3"/>
                </a:rPr>
                <a:t>vania-hernandes@uol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 u="sng">
                  <a:solidFill>
                    <a:srgbClr val="666699"/>
                  </a:solidFill>
                  <a:uFillTx/>
                  <a:latin typeface="Calibri"/>
                  <a:ea typeface="Calibri"/>
                  <a:hlinkClick r:id="rId4"/>
                </a:rPr>
                <a:t>http://lattes.cnpq.br/5060154719055619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15. 98117-90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tângulo 7"/>
            <p:cNvSpPr/>
            <p:nvPr/>
          </p:nvSpPr>
          <p:spPr>
            <a:xfrm>
              <a:off x="3643200" y="5494320"/>
              <a:ext cx="1944720" cy="288720"/>
            </a:xfrm>
            <a:prstGeom prst="rect">
              <a:avLst/>
            </a:prstGeom>
            <a:solidFill>
              <a:srgbClr val="e1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7f7f7f"/>
                  </a:solidFill>
                  <a:latin typeface="Arial"/>
                </a:rPr>
                <a:t>11. 2338-50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CaixaDeTexto 1"/>
            <p:cNvSpPr/>
            <p:nvPr/>
          </p:nvSpPr>
          <p:spPr>
            <a:xfrm>
              <a:off x="539640" y="5950080"/>
              <a:ext cx="8280360" cy="580680"/>
            </a:xfrm>
            <a:prstGeom prst="rect">
              <a:avLst/>
            </a:prstGeom>
            <a:solidFill>
              <a:srgbClr val="e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7f7f7f"/>
                  </a:solidFill>
                  <a:latin typeface="Arial"/>
                </a:rPr>
                <a:t>Atendimento: Avenida Vereador Abel Ferreira nº 1950 | Vila Regente Feijó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7f7f7f"/>
                  </a:solidFill>
                  <a:latin typeface="Arial"/>
                </a:rPr>
                <a:t>São Paulo – SP | CEP: 03340-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4"/>
          <p:cNvSpPr/>
          <p:nvPr/>
        </p:nvSpPr>
        <p:spPr>
          <a:xfrm>
            <a:off x="806400" y="1125360"/>
            <a:ext cx="383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OS INCENTIVOS FISC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tângulo 9"/>
          <p:cNvSpPr/>
          <p:nvPr/>
        </p:nvSpPr>
        <p:spPr>
          <a:xfrm>
            <a:off x="806400" y="1989000"/>
            <a:ext cx="741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Governo adotou o mecanismo de renúncia ﬁscal para incentivar a cultura, o esporte e o desenvolvimento social. Ou seja, o Governo abre mão da arrecadação de parte dos impostos (PF e PJ) para destinar a projetos relevantes e capazes de promover o desenvolvimento da socie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isso, as empresas têm a oportunidade de investir uma parte dos impostos para projetos culturais, esportivos e sociais à sua escolh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582480" y="1916280"/>
            <a:ext cx="7905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Lei nº 8.313/1991  - Lei Rouan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Legislações estaduais – ICM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Convênio SINCO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Convênio Esporte Social - Secretaria de Esportes Estado de São Pau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Convênio de Projetos e Eventos Esportivos Entidades e Prefeitu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Projetos pelo Comitê Brasileiro de Clubes na Formação de Atletas Olímpicos e Paraolímpicos Lei nº  9.615/98 - (0,5% de toda a verba arrecadada nos concursos de prognósticos feder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"/>
          <p:cNvSpPr/>
          <p:nvPr/>
        </p:nvSpPr>
        <p:spPr>
          <a:xfrm>
            <a:off x="722160" y="1085760"/>
            <a:ext cx="762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OSSIBILIDADES DE APOIO FOMENTADOS COM RECURSOS DAS LEIS DE INCEN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tângulo 1"/>
          <p:cNvSpPr/>
          <p:nvPr/>
        </p:nvSpPr>
        <p:spPr>
          <a:xfrm>
            <a:off x="617400" y="1628640"/>
            <a:ext cx="7721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Objetivo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Usar parte do imposto recolhido no Estado e investir em várias modalidades esportivas, inclusão social e na formação de novos atletas, contemplando modalidades tanto individuais quanto coletiv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Segmentos Espor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Gestão, Formação Desportiva, Participativa, Rendimento, Educacional, Sócio  Desportiva e de infraestru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Regulador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cretaria de Esporte, Lazer e Juventude do Estado de São Pa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Quem pode receber incentivo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stituições sem fins lucrativos que tenham natureza desportiv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e no mínimo 3 (três) ano em funcionamento, que  captará  os recursos  e  fará  a  gestão do projeto,  sendo  indelegável  sua responsabilidade pela apresentação, execução  e  prestação de co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tângulo 2"/>
          <p:cNvSpPr/>
          <p:nvPr/>
        </p:nvSpPr>
        <p:spPr>
          <a:xfrm>
            <a:off x="617400" y="101268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LEI PAULISTA DE INCENTIVO AO ESPORTE PIE -ICMS (Lei nº 13.918/09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Imagem 5" descr=""/>
          <p:cNvPicPr/>
          <p:nvPr/>
        </p:nvPicPr>
        <p:blipFill>
          <a:blip r:embed="rId1"/>
          <a:stretch/>
        </p:blipFill>
        <p:spPr>
          <a:xfrm>
            <a:off x="6948360" y="125280"/>
            <a:ext cx="20448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tângulo 1"/>
          <p:cNvSpPr/>
          <p:nvPr/>
        </p:nvSpPr>
        <p:spPr>
          <a:xfrm>
            <a:off x="617400" y="1628640"/>
            <a:ext cx="8131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Quantidade de Projetos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Cada proponente poderá apresentar até 03 projetos, desde que estes somados não ultrapassem o valor global de 60.901 UFE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mo funciona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Abatimento de 100% do valor incentivado até o limite de 3%* do ICMS devido pela Pessoa Jurídica.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Ex.: Se uma empresa paga R$ 5 milhões de ICMS por mês ao governo, poderá destinar R$ 150 mil para incentivar e patrocinar mensalmente um projeto esportivo, obtendo as contrapartidas de exposição de um patrocínio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*Conforme tabela decrescente de alíquotas, dependendo do montante do ICMS à recol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**Não compete com outros incen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tângulo 2"/>
          <p:cNvSpPr/>
          <p:nvPr/>
        </p:nvSpPr>
        <p:spPr>
          <a:xfrm>
            <a:off x="617400" y="101268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LEI PAULISTA DE INCENTIVO AO ESPORTE PIE -ICMS (Lei nº 13.918/09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Imagem 5" descr=""/>
          <p:cNvPicPr/>
          <p:nvPr/>
        </p:nvPicPr>
        <p:blipFill>
          <a:blip r:embed="rId1"/>
          <a:stretch/>
        </p:blipFill>
        <p:spPr>
          <a:xfrm>
            <a:off x="6948360" y="125280"/>
            <a:ext cx="20448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4"/>
          <p:cNvSpPr/>
          <p:nvPr/>
        </p:nvSpPr>
        <p:spPr>
          <a:xfrm>
            <a:off x="515880" y="944640"/>
            <a:ext cx="84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3f"/>
                </a:solidFill>
                <a:latin typeface="Calibri"/>
              </a:rPr>
              <a:t>LEI FEDERAL DE INCENTIVO AO ESPORTE  (LEI Nº 8.313/91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tângulo 9"/>
          <p:cNvSpPr/>
          <p:nvPr/>
        </p:nvSpPr>
        <p:spPr>
          <a:xfrm>
            <a:off x="500040" y="1773360"/>
            <a:ext cx="8070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Projetos desportivos e paradespor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gulador: Ministério do Esp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Quem pode receber incentiv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Instituições sem fins lucrativos que tenham natureza desportiva com CNPJ constituído há 1(um) 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Como funcion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Abatimento de 100% do valor incentivado até o limite de 1% do Imposto de Renda devido pela Pessoa Jurídica (tributada em Lucro Real) e 6% pela Pessoa Fís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Empresas em potencia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Multinacionais, conglomerados dos setores bancário, industrial, de transporte aéreo e empresas de telecomunic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tângulo 4"/>
          <p:cNvSpPr/>
          <p:nvPr/>
        </p:nvSpPr>
        <p:spPr>
          <a:xfrm>
            <a:off x="684360" y="1700280"/>
            <a:ext cx="792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A Lei de Incentivo ao Esporte Federal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ermite que patrocínios e doações para a realização de projetos desportivos sejam descontados do imposto de renda dev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Segmentos Espor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Gestão, Formação Desportiva, Participativa, Rendimento, Educacional, Sócio  Desportiva e de infraestru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Quantidade de Projetos: </a:t>
            </a: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A Lei limita a 6 (seis)  projetos por ano,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      </a:t>
            </a: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um mesmo pro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tângulo 2"/>
          <p:cNvSpPr/>
          <p:nvPr/>
        </p:nvSpPr>
        <p:spPr>
          <a:xfrm>
            <a:off x="684360" y="92376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LEI FEDERAL DE INCENTIVO AO ESPORTE  (Lei Nº 8.313/91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https://esportelegal.files.wordpress.com/2012/07/logoleiincentivom.png"/>
          <p:cNvPicPr/>
          <p:nvPr/>
        </p:nvPicPr>
        <p:blipFill>
          <a:blip r:embed="rId1"/>
          <a:stretch/>
        </p:blipFill>
        <p:spPr>
          <a:xfrm>
            <a:off x="8028000" y="55440"/>
            <a:ext cx="100800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tângulo 9"/>
          <p:cNvSpPr/>
          <p:nvPr/>
        </p:nvSpPr>
        <p:spPr>
          <a:xfrm>
            <a:off x="633240" y="1700280"/>
            <a:ext cx="7456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s pessoas jurídicas podem utilizar dos benefícios fiscais  nas doações par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) para entidades civis, sem fins lucrativos, de Utilidade Pública Federal e qualificadas como OSCIPs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b) para instituições de ensino e pesquisa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) destinadas a projetos culturais, artísticos e audiovisuais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) para os Fundos dos Direitos da Criança e do Adolescente (feder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taduais e municipais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) destinadas a projetos desportiv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tângulo 1"/>
          <p:cNvSpPr/>
          <p:nvPr/>
        </p:nvSpPr>
        <p:spPr>
          <a:xfrm>
            <a:off x="633240" y="104616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ATROCÍNIO DE PESSOA JURÍDICA PARA PROJETOS PELA LEI FED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2" descr="https://esportelegal.files.wordpress.com/2012/07/logoleiincentivom.png"/>
          <p:cNvPicPr/>
          <p:nvPr/>
        </p:nvPicPr>
        <p:blipFill>
          <a:blip r:embed="rId1"/>
          <a:stretch/>
        </p:blipFill>
        <p:spPr>
          <a:xfrm>
            <a:off x="8028000" y="44280"/>
            <a:ext cx="100800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2:52:57Z</dcterms:created>
  <dc:creator>Vanira</dc:creator>
  <dc:description/>
  <dc:language>en-US</dc:language>
  <cp:lastModifiedBy>Celso Cordeiro</cp:lastModifiedBy>
  <cp:lastPrinted>2017-07-20T11:00:00Z</cp:lastPrinted>
  <dcterms:modified xsi:type="dcterms:W3CDTF">2017-08-24T18:37:54Z</dcterms:modified>
  <cp:revision>617</cp:revision>
  <dc:subject/>
  <dc:title>Slide 1</dc:title>
</cp:coreProperties>
</file>